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EF9-A1EA-438F-9C2B-1F2DEC7F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079-DA19-4057-BF0C-C544F43F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539-A5D4-48F2-9770-366F196D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D9D-1C77-4F93-B409-93CB6BF8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D8C-12FF-400A-B19B-EF8F852C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2CD-20F2-4CF0-B12D-F1F6A495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6B2-FBE8-4B56-8F03-C795D12F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86D-84F4-4429-879A-9B92ABE7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4E2-A955-4DA9-AAFB-E8D53452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47E-0A3C-491C-8CF6-DFEC72F0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1D6-E7CD-44B6-99A1-3EEBD31A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DCA-3AE5-4C40-AD20-B3CA8CC9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6803-2CB1-4C68-B42E-7008CCBE4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4:55:51Z</dcterms:created>
  <dc:creator>Grupo Editorial</dc:creator>
  <dc:description/>
  <dc:language>en-US</dc:language>
  <cp:lastModifiedBy>Grupo Editorial</cp:lastModifiedBy>
  <dcterms:modified xsi:type="dcterms:W3CDTF">2001-09-20T14:57:13Z</dcterms:modified>
  <cp:revision>1</cp:revision>
  <dc:subject/>
  <dc:title>Sin título de diapositiva</dc:title>
</cp:coreProperties>
</file>